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EF4-EF34-4F6C-840C-F4F2189E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DB2-9F55-465C-A75D-7AF3C3A5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C6E-B356-496F-9860-41D241C4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A8B-B293-4352-A354-A5B98CCB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4B9-3274-44A3-8EE5-EBE70EC0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A84-BF80-4176-B2E2-4D70FEAD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B8B-BBBB-455C-B156-64F32689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D53-A161-45C3-9174-84714410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EE8-3EE8-457C-BC7D-37C2CE9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1BA-3520-497E-A5BE-4210DECC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A32-D1A4-49F2-8388-FC119D2B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229-7B98-4F0F-903B-168D19A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6438-F043-4411-818E-D121FCC2A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3295902&amp;tn=baiduimagedetail&amp;word=&#21476;&#20195;&#31036;&#20202;&amp;in=1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.baidu.com/i?ct=503316480&amp;z=169216701&amp;tn=baiduimagedetail&amp;word=&#31036;&#20202;&amp;in=207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.baidu.com/i?ct=503316480&amp;z=584878000&amp;tn=baiduimagedetail&amp;word=&#24352;&#33391;&amp;in=2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.baidu.com/i?ct=503316480&amp;z=640220802&amp;tn=baiduimagedetail&amp;word=&#24352;&#33391;&amp;in=8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.baidu.com/i?ct=503316480&amp;z=977591553&amp;tn=baiduimagedetail&amp;word=&#21476;&#20195;&#31036;&#20202;&amp;in=8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讲礼仪 知荣辱 促成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42900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年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4292640"/>
            <a:ext cx="3241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华在学校度过了一个愉快的上午。中午放学回到家，小华按按门铃，奇怪，怎么没人开门呢？他用钥匙开了门，发现爸爸、妈妈不在家，桌上有一张纸条，上面写着：小华，奶奶得了重感冒，我们陪她去医院了，一会儿就回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时，门铃响了，小华开门一看，是一位陌生的叔叔，他问：“您找谁？”那人说：“我找你爸爸有事。”小华说：“                                                     ！”过了一会儿，爸爸、妈妈带着奶奶回来了，小华赶快过去搀扶奶奶，关切地问道：“                                     您先在床上躺一会儿，我去给您倒杯水。”奶奶微笑着夸奖小华：“真是个懂事的好孩子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480" y="33577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我爸爸不在家，请您晚上再来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1160" y="4221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奶奶，您好点儿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中饭了，小华主动地帮着盛饭，端菜，啊！今天有糖醋排骨，这可是小华最爱吃的菜了，他把这盘菜端到了爸爸跟前，爸爸说：“这是专门为你做的”。小华说：“                                   ”，爸爸高兴地笑了。妈妈不停地往小华碗中夹排骨，小华说：“妈妈，老师说，素菜中含有丰富的维生素，吃了有利于健康，而且吃饭时要细嚼慢咽。”妈妈听了，对爸爸说：“咱家的小华懂的真是越来越多了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午放学，小华在做作业， 这时，电话铃响了，小华拿起话筒说：“                               ？”原来又是中午来过的那位叔叔来电话找爸爸，小华说：“                                                                        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126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您是长辈，该您先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2600" y="400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您好，请问您找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9200" y="4941720"/>
            <a:ext cx="46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爸爸今晚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点钟回来，到时您再和爸爸联系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828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吃过晚饭，爸爸在看新闻联播，这时小华想起今天有《神奇宝贝》看，等爸爸看完新闻联播后，小华征得爸爸的同意调换了频道，津津有味地看了起来，他看见爸爸在打电脑，就把音量调小了点，这时门铃响了，小华打开门一看，原来是那位叔叔，小华热情地给叔叔开了门，给叔叔倒了一杯热茶，叔叔送给小华一辆小赛车，小华高兴极了，双手接过赛车，说：“              ！”爸爸和叔叔谈话时，小华轻轻地把房间门关上了。叔叔要走了，小华和爸爸一起把叔叔送到门口，对他说：“                                           。”叔叔摸摸小华的头，对爸爸说：“你的儿子真有礼貌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0560" y="35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谢谢叔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71360" y="47973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叔叔再见，欢迎您下次再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7487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天是双休日，上午，妈妈带着小华去姑姑家玩，小华和表弟在一起开心地做游戏。这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想起和王文文约好去她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妈妈说：“                                                         。”妈妈说：“别回来晚了。” 小华高兴地答应了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上，小华和爸爸妈妈道了晚安，躺在床上，不一会儿就进入了甜美的梦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73000" y="184464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妈妈，我想去同学王文文家玩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可以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下列的做法，你认为做得对的打“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，错的打“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家里的电话响了，你拿起话筒问：“喂！找谁的？”（     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吃饭时先请长辈、客人就座，主动为长辈、客人装汤盛饭。（    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阿姨送给你一份小礼物，你马上说：“这礼物我不喜欢，不用送了。”丢下礼物就走了。（      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小明在家唱卡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，只顾自己大声地唱完一首又一首，却不肯让给别人唱一会儿，直唱到深夜。（     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1360" y="3011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5600" y="52434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1960" y="4162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71240" y="22906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测测你在学校的表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红上课迟到 ，老师正在讲课，她该这样进入课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声不吭地走进去。（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先说“报告”，老师允许才进去。（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偷偷从后门溜进去。（     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4520" y="3213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下节课是到多媒体教室上课，我们班的同学应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听到上课铃响后，匆匆忙忙跑去多媒体教室上课。（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上课铃响后，才三三两两慢慢吞吞地走去上课。（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上课预备铃响之前排好队，快、静、齐地进入多媒体教室。（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8520" y="4221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当你对老师讲的内容不明白时，你应该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好意思问老师或担心老师批评。（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放在一边不理睬它。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虚心诚恳向老师请教，直到弄明白为止。（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8520" y="36781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当同学受到表扬或奖励时，你应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认为他没什么了不起，不理睬。（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衷心祝贺他，向他学习。（ 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嫉妒他，到老师面前说他的坏话。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25600" y="25988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在校遇到陌生老师时，你应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装作没看见。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报以友好的微笑。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大方地说：“老师好！” 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悄悄地绕道躲开。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0520" y="3246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讲一个礼仪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发现身边的一个礼仪榜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在校园提醒一次不文明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掉自身的一个不文明行为习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4581360"/>
            <a:ext cx="1701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当有客人来校向你打听情况时，你应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理不睬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热情地提供帮助，亲自带他找到相关的人或地点。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找个借口走开。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告诉他相关的人或地点。（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5240" y="31748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52520" y="43988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讨论下列各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、课间值日生为什么要及时擦干净黑板、摆好教具？</a:t>
            </a:r>
            <a:br>
              <a:rPr sz="2800"/>
            </a:b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、上课时，小华没向老师请假就匆匆忙忙跟着妈妈离开了学校，这样做对吗？应该怎样做才对？</a:t>
            </a:r>
            <a:br>
              <a:rPr sz="2800"/>
            </a:b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、课间，小红不小心碰掉了小东的笔盒，小东马上骂她：“你怎么搞的！碰掉我的笔盒，你真坏！”小红哭着说：“我不是故意的，你为什么骂我？”于是他们争吵起来。请问：你认为遇到这种情况，小红、小东分别应该怎么做才对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讲礼仪的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个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内强素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现代人要跟别人打交道也好，恰到好处的展示自己的素质是非常重要的，那么教养体现于细节，细节展示素质，言谈话语举止行为，其实是素养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0755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个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塑形象，在与人交往中，你的形象不但取决于你的相貌衣着等”硬件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取决于个人修养品质等”软件” 。在校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的形象代表了我们学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是在与外国人交往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人形象还代表国家形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个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讲礼仪可以增进交往，我们都有这样的欲望，要多交朋友，广交朋友，一个人不管你愿意不愿意你必然要跟别人打交道，和别人交往，既然要跟别人交往，你就要有交往的艺术，所以学习礼仪有助于交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4360" y="836640"/>
            <a:ext cx="7559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让我们大家都做讲礼仪的现代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84720" y="3429000"/>
            <a:ext cx="42735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11280" y="836640"/>
            <a:ext cx="417492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什么是礼仪</a:t>
            </a:r>
            <a:r>
              <a:rPr b="1" lang="zh-CN" sz="6000" spc="-1" strike="noStrike">
                <a:solidFill>
                  <a:srgbClr val="66ff33"/>
                </a:solidFill>
                <a:latin typeface="华文新魏"/>
                <a:ea typeface="华文新魏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2000" y="1168560"/>
            <a:ext cx="8352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礼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这两个字的意思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者敬人也”。在人际交往中，既要尊重别人，更要尊重自己，礼者敬人。不仅要有礼，而且要有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仪”就是恰到好处的向别人表示尊重的形式。善待自己也好，善待别人也好，尊重自己也好，尊重别人也好，既有礼，礼就是尊重，又有仪，仪就是表达。没有礼是没有仪的。“礼仪”就是社交场合人际交往中的行为规范，行为者举止动作也，规范者标准做法也，所谓礼仪实际上就是我们在人际交往中，待人接物的标准化做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礼仪的原则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516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敬人的原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尊敬他人，是人际交往获得成功的重要保证，也是礼仪的核心。敬人的原则，就是要求在运用礼仪时，务必将对交往对象的恭敬与重视放在首位，切勿伤害对方的自尊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自律的原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自律，就是要克己，慎重；就是要在运用礼仪时，积极主动，自觉自愿，表里如一，自我对照，自我反省，自我要求，自我检点，自我约束，不允许妄自菲薄，自轻自贱；也不能人前人后不一样，生人熟人面前不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适度的原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运用礼仪，与做其他事情一样，讲究具体问题具体分析，而且应当牢记过犹不及。所谓适度，就是要求在运用礼仪时，既要掌握普遍规律，又要针对具体情况，认真得体，掌握分寸，不能做得过了头，也不能做得不到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真诚的原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应用礼仪，必须诚心诚意，待人以诚。这样去做，待人友好与敬意才易于为他人所接受。不允许在运用礼仪时逢场作戏，言行不一，口是心非，投机取巧，做假骗人，这就是真诚的原则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想一想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为什么要讲礼仪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2565360"/>
            <a:ext cx="38178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华文新魏"/>
              </a:rPr>
              <a:t>五千年文明的礼仪之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064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讲中华礼仪故事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422100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565360"/>
            <a:ext cx="5256000" cy="4008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36007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张良拜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620640"/>
            <a:ext cx="2695680" cy="3135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56360" y="4076640"/>
            <a:ext cx="2220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廉蔺交欢</a:t>
            </a:r>
            <a:br>
              <a:rPr sz="6000"/>
            </a:br>
            <a:r>
              <a:rPr b="0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孔融让梨</a:t>
            </a:r>
            <a:br>
              <a:rPr sz="6000"/>
            </a:br>
            <a:r>
              <a:rPr b="0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程门立雪</a:t>
            </a:r>
            <a:br>
              <a:rPr sz="6000"/>
            </a:br>
            <a:r>
              <a:rPr b="0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千里送鹅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讲讲我身边的礼仪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懂礼貌的小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叮铃铃”，清脆的铃声打破了黎明的寂静。小华一骨碌起了床，拉开窗帘一看，啊，好一个明亮的世界呀！小鸟在枝头欢快地歌唱。他迅速穿好衣服，看见妈妈在做早饭，爸爸在洗脸，小华向爸爸妈妈问了声“            ！”洗漱完毕，吃过早饭，对爸爸妈妈说了声“           ”，就去上学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80800" y="465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早上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59800" y="5157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05:19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7:23Z</dcterms:modified>
  <cp:revision>6</cp:revision>
  <dc:subject>主题班会课件(分28大类): http://shop62905894.taobao.com</dc:subject>
  <dc:title>主题班会课件(分28大类): http://shop62905894.taobao.com</dc:title>
</cp:coreProperties>
</file>